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6FB-0852-43E5-98AB-492C2C66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131-A7E1-49C8-AB5C-200A2AC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801-5024-4309-90D6-9CE38E14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758-6886-4CDF-A9DD-9C56FF86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2F9-269A-40FC-A17F-D18E27DB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1B8-6B11-4A92-A8BC-ED70734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B130-A97F-4DC7-B46F-994D420F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5F3-425A-44C1-9803-5952778D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3EE2-FD9F-4409-8C66-B3336FC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3B70-A584-431C-B128-D2D1244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912C-8006-489A-8468-81F3B26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42B-8582-4509-A4AE-9B80F9D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E7D-C2A1-45A1-BC2E-C1EB2D5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5931-024D-45C1-BC0C-165327C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9E72-DAC1-4546-AD96-3DABE41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DAE-9BC9-461C-AFB5-7BCBAFEF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A711-47B8-41B5-9D03-771B1B45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8FF-63AF-4029-AA02-867A59D5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5C1-02D1-43A5-89BA-B952676B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C8D-33A2-4700-BDA4-D540709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87F-B1E4-4A82-85C7-3D1DB3E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928-F141-4B44-BF4D-A389003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435-7F92-418D-9E70-8FA37E8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9C9-2509-415B-BE4D-8FF5B58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FA76-F207-48E1-8CDF-B751A137D1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4B6-E97C-4D61-96E3-BDA4248EF0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r Favorite Book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the title of the book 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in idea of my book is _____________________________________________________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like this book because 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 and insert a copy of the student’s picture 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the title of the book 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in idea of my book is _____________________________________________________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like this book because 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 and insert a copy of the student’s picture 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2:07:24Z</dcterms:created>
  <dc:creator>Stacy Aderholt</dc:creator>
  <dc:description/>
  <dc:language>en-US</dc:language>
  <cp:lastModifiedBy>Stacy Aderholt</cp:lastModifiedBy>
  <dcterms:modified xsi:type="dcterms:W3CDTF">2005-08-22T12:43:04Z</dcterms:modified>
  <cp:revision>1</cp:revision>
  <dc:subject/>
  <dc:title>Our Favorite Books  </dc:title>
</cp:coreProperties>
</file>